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image6.png" ContentType="image/png"/>
  <Override PartName="/ppt/media/image12.jpeg" ContentType="image/jpeg"/>
  <Override PartName="/ppt/media/image4.gif" ContentType="image/gif"/>
  <Override PartName="/ppt/media/image8.png" ContentType="image/png"/>
  <Override PartName="/ppt/media/image11.jpeg" ContentType="image/jpeg"/>
  <Override PartName="/ppt/media/image13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33C24-F478-4717-98F2-E5795D4360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ous Syst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he end of the lesson you should be able t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transmission of impulses from senses to central nervous system and back to muscl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reflex action and the pathway of the reflex arc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function of reflex respons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role of the central nervous system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he end of the lesson you should be able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transmission of impulses from senses to central nervous system and back to mus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reflex action and the pathway of the reflex ar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function of reflex respo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role of the central nervous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ynaps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kins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kins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yna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kins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kin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rvous syst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sic nerve cell structu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sic nerve cell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ain types of nerve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ory neuron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y neuron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 neuron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ain types of nerv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ory neur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y neur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 neur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ory neur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s impulses from receptors e.g pain receptors in skin to the CNS( brain or spinal  cord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ory neu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s impulses from receptors e.g pain receptors in skin to the CNS( brain or spinal  cor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y neur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s impulses from sensory nerves to motor nerv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y neu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s impulses from sensory nerves to motor ner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 neur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s impulses from CNS to effector e.g. muscle to bring about movement or gland to bring about secretion of hormone e.g ADH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 neu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s impulses from CNS to effector e.g. muscle to bring about movement or gland to bring about secretion of hormone e.g AD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mission of signa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mission of sig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978C-CEE6-459B-BDD1-2FD046093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D501-47B7-41DD-91F3-B2DB3D4B9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10D5-7716-410D-9652-3C2FB0235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DD54-BDCF-4F73-9C8E-B72DCDD79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5D6B9-A133-4087-B510-B328E601D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6B614-42C3-478D-9156-F70AD160C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8D91A-134C-4E2F-85C8-C479AFD4E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DC10C-51C2-4636-98B0-7E581B9D4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19662-4F53-4E2C-9534-BBEFA73A5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69D51-B609-4943-93A7-0FB489423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5AC6A-0942-46F0-8965-1900CC43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7BD9-585D-4B63-875B-5C9C48159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0E91E-A1EF-40E5-A4B4-2F681CAD6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F025B-9B58-48AA-BA8E-E7B8009CA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D9576-F81C-4886-8112-0C905F944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BCCB9-BCDC-42B5-99C0-54C90FA76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37AF3-857B-459B-AC22-33B109DF9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10E4-A523-42FC-89BC-3B5724353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444C-FE32-4EB8-A985-460B258E2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D285-9DD1-4604-A22D-5C173F5BE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3ED9-9028-402D-A028-A05A16A20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C9D0-6794-47D8-8F9F-63EF8F5EB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64D6-3861-488F-BE4A-6B28B5B75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8178-73ED-4426-889F-D84A61EA4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3741B-41AD-4262-93EB-9E54B11512B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2AC38-2476-442C-A272-32DA5DAD7F3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Comic Sans MS"/>
              </a:rPr>
              <a:t>Nervous System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1827000"/>
            <a:ext cx="8381880" cy="47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omic Sans MS"/>
              </a:rPr>
              <a:t>By the end of the lesson you should be able t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omic Sans MS"/>
              </a:rPr>
              <a:t>Describe the transmission of impulses from senses to central nervous system and back to muscl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omic Sans MS"/>
              </a:rPr>
              <a:t>Describe the reflex action and the pathway of the reflex ar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omic Sans MS"/>
              </a:rPr>
              <a:t>Describe the function of reflex respons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omic Sans MS"/>
              </a:rPr>
              <a:t>Describe the role of the central nervous system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cc"/>
                </a:solidFill>
                <a:latin typeface="Arial"/>
              </a:rPr>
              <a:t>The Synapse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1828800" y="1600200"/>
            <a:ext cx="5832360" cy="506268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8800" y="6248520"/>
            <a:ext cx="136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arkins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328680" y="54864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arkins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nervoussystematlas"/>
          <p:cNvPicPr/>
          <p:nvPr/>
        </p:nvPicPr>
        <p:blipFill>
          <a:blip r:embed="rId1"/>
          <a:stretch/>
        </p:blipFill>
        <p:spPr>
          <a:xfrm>
            <a:off x="2340000" y="0"/>
            <a:ext cx="404172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5702760" y="5562720"/>
            <a:ext cx="18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nervous syst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Nervous System"/>
          <p:cNvPicPr/>
          <p:nvPr/>
        </p:nvPicPr>
        <p:blipFill>
          <a:blip r:embed="rId1"/>
          <a:stretch/>
        </p:blipFill>
        <p:spPr>
          <a:xfrm>
            <a:off x="2124000" y="549360"/>
            <a:ext cx="4532400" cy="568800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Comic Sans MS"/>
              </a:rPr>
              <a:t>Basic nerve cell structure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06" name="Picture 3" descr="basicneuron"/>
          <p:cNvPicPr/>
          <p:nvPr/>
        </p:nvPicPr>
        <p:blipFill>
          <a:blip r:embed="rId1"/>
          <a:stretch/>
        </p:blipFill>
        <p:spPr>
          <a:xfrm>
            <a:off x="1763640" y="1484280"/>
            <a:ext cx="5832720" cy="3525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longn"/>
          <p:cNvPicPr/>
          <p:nvPr/>
        </p:nvPicPr>
        <p:blipFill>
          <a:blip r:embed="rId2"/>
          <a:stretch/>
        </p:blipFill>
        <p:spPr>
          <a:xfrm>
            <a:off x="1835280" y="5445000"/>
            <a:ext cx="5903640" cy="92880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Comic Sans MS"/>
              </a:rPr>
              <a:t>3 main types of nerve cells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10" name="Picture 3" descr="Senseneuron"/>
          <p:cNvPicPr/>
          <p:nvPr/>
        </p:nvPicPr>
        <p:blipFill>
          <a:blip r:embed="rId1"/>
          <a:stretch/>
        </p:blipFill>
        <p:spPr>
          <a:xfrm>
            <a:off x="684360" y="1628640"/>
            <a:ext cx="2360520" cy="2808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neuron1"/>
          <p:cNvPicPr/>
          <p:nvPr/>
        </p:nvPicPr>
        <p:blipFill>
          <a:blip r:embed="rId2"/>
          <a:stretch/>
        </p:blipFill>
        <p:spPr>
          <a:xfrm>
            <a:off x="5796000" y="1628640"/>
            <a:ext cx="2790720" cy="29718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3" name="Object 6"/>
          <p:cNvGraphicFramePr/>
          <p:nvPr/>
        </p:nvGraphicFramePr>
        <p:xfrm>
          <a:off x="3203640" y="1700280"/>
          <a:ext cx="2665440" cy="277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1700280"/>
                    <a:ext cx="266544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Text Box 7"/>
          <p:cNvSpPr/>
          <p:nvPr/>
        </p:nvSpPr>
        <p:spPr>
          <a:xfrm>
            <a:off x="1258920" y="486900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nsory neuro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995640" y="494172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lay neuro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6804000" y="494172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tor neuro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Comic Sans MS"/>
              </a:rPr>
              <a:t>Sensory neurons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5076720" y="1989000"/>
            <a:ext cx="165600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Picture 12" descr="Scan10025"/>
          <p:cNvPicPr/>
          <p:nvPr/>
        </p:nvPicPr>
        <p:blipFill>
          <a:blip r:embed="rId1"/>
          <a:srcRect l="11818" t="47247" r="9800" b="37787"/>
          <a:stretch/>
        </p:blipFill>
        <p:spPr>
          <a:xfrm>
            <a:off x="304920" y="1752480"/>
            <a:ext cx="8305560" cy="37339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13"/>
          <p:cNvSpPr/>
          <p:nvPr/>
        </p:nvSpPr>
        <p:spPr>
          <a:xfrm>
            <a:off x="228600" y="548496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rries impulses from receptors e.g pain receptors in skin to the CNS( brain or spinal  cord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cc"/>
                </a:solidFill>
                <a:latin typeface="Comic Sans MS"/>
              </a:rPr>
              <a:t>Relay neuron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26" name="Picture 8" descr="Scan10026"/>
          <p:cNvPicPr/>
          <p:nvPr/>
        </p:nvPicPr>
        <p:blipFill>
          <a:blip r:embed="rId1"/>
          <a:srcRect l="23575" t="35840" r="24497" b="46341"/>
          <a:stretch/>
        </p:blipFill>
        <p:spPr>
          <a:xfrm>
            <a:off x="1219320" y="1905120"/>
            <a:ext cx="7467480" cy="350496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9"/>
          <p:cNvSpPr/>
          <p:nvPr/>
        </p:nvSpPr>
        <p:spPr>
          <a:xfrm>
            <a:off x="228600" y="525780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arries impulses from sensory nerves to motor nerv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Comic Sans MS"/>
              </a:rPr>
              <a:t>Motor neuron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30" name="Picture 13" descr="Scan10027"/>
          <p:cNvPicPr/>
          <p:nvPr/>
        </p:nvPicPr>
        <p:blipFill>
          <a:blip r:embed="rId1"/>
          <a:srcRect l="11818" t="29424" r="9800" b="49904"/>
          <a:stretch/>
        </p:blipFill>
        <p:spPr>
          <a:xfrm>
            <a:off x="838080" y="1828800"/>
            <a:ext cx="7696440" cy="40384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4"/>
          <p:cNvSpPr/>
          <p:nvPr/>
        </p:nvSpPr>
        <p:spPr>
          <a:xfrm>
            <a:off x="0" y="53038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arries impulses from CNS to effector e.g. muscle to bring about movement or gland to bring about secretion of hormone e.g AD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cc"/>
                </a:solidFill>
                <a:latin typeface="Arial"/>
              </a:rPr>
              <a:t>Transmission of signa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34" name="Picture 4" descr="synapse"/>
          <p:cNvPicPr/>
          <p:nvPr/>
        </p:nvPicPr>
        <p:blipFill>
          <a:blip r:embed="rId1"/>
          <a:stretch/>
        </p:blipFill>
        <p:spPr>
          <a:xfrm>
            <a:off x="4572000" y="1700280"/>
            <a:ext cx="3959280" cy="3375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synapse"/>
          <p:cNvPicPr/>
          <p:nvPr/>
        </p:nvPicPr>
        <p:blipFill>
          <a:blip r:embed="rId2"/>
          <a:stretch/>
        </p:blipFill>
        <p:spPr>
          <a:xfrm>
            <a:off x="1442880" y="1984320"/>
            <a:ext cx="3392640" cy="268452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2</dc:creator>
  <dc:description>Nervous system</dc:description>
  <cp:keywords>Nervous system</cp:keywords>
  <dc:language>en-US</dc:language>
  <cp:lastModifiedBy>LEGION2</cp:lastModifiedBy>
  <dcterms:modified xsi:type="dcterms:W3CDTF">2016-01-14T10:40:52Z</dcterms:modified>
  <cp:revision>8</cp:revision>
  <dc:subject>Nervous system</dc:subject>
  <dc:title>Nervou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